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1F8-BF6E-4A7D-85F1-097DBB7E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F5F-A88E-4A77-BD1F-76D13A3F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8A0-12AC-47D1-BEB3-5461DDAA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AAD-086E-4AA2-B24B-4E6676B6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E94-D615-48EA-B6A8-5C3026C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447-0059-41FE-BF9F-CB02717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2E2-6F7E-42C1-B94F-5FBA814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591-7148-4AEA-8180-A22BB22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DCC-E8CD-401A-AB52-80B2AA2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7B-9ECC-40CF-821A-B076490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294-4E86-4814-9AEB-55AF7AE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3DE-2A93-42C4-80DF-F5E158A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AF2-209E-4633-839B-E8BB4A30C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5.1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5.2.jpg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25:13Z</dcterms:created>
  <dc:creator>conversion</dc:creator>
  <dc:description/>
  <dc:language>en-US</dc:language>
  <cp:lastModifiedBy>conversion</cp:lastModifiedBy>
  <dcterms:modified xsi:type="dcterms:W3CDTF">2015-01-14T09:26:09Z</dcterms:modified>
  <cp:revision>1</cp:revision>
  <dc:subject/>
  <dc:title>Slide 1</dc:title>
</cp:coreProperties>
</file>